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320" y="8728200"/>
            <a:ext cx="15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al del Instr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99760" y="8731080"/>
            <a:ext cx="113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10.</a:t>
            </a:r>
            <a:fld id="{8B865616-BCE5-4EBB-B05C-AFC62A7E7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ija a los estudiantes al capítulo uno de sus cuader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emás de discutir el polvo de plomo, hable de los vapores que se producen al calentar o quemar piezas pintadas con pintura con base de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acción de los niños de 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troducirs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la mano en la boca” y la forma en qu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to es una ruta de exposición del niñ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forma en que trabajadores encargados de la mitiga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lomo en una construcción pueden ingerir polvo de plomo al fumar o al ingerir alimentos o bebidas en un sitio en donde se están llevando a cabo actividades de mitiga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cómo los síntomas de envenenamiento por plomo son similares a los de la fatiga, resfriado común, influenza, tensión, envenenamiento por alimentos, etc.  Nota:  En el próximo capítulo se hablará con mayor detalle de estos síntoma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 CONTINUACI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APOSITIVAS CON FOTOGRAF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S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:  Diapositivas 1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iño pequeño sentado en el regazo de su hermana.  Llame la aten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a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anasta con carros de juguete que el n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tien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su regaz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niño pequeño se introduce un juguete a la boc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a actividad normal en niños pequ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 Si el juguete tiene polvo de plomo en su superficie, el polvo de plomo pasar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 la boca del n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cómo estos oficios o pasatiempos pueden exponer a una persona al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964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iapositiva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iscuta la localización geográfica de casas y objetos que probablemente contienen plomo y explique por qué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iscuta la Ley de Prevención de Envenenamiento por Pintura con Base de Plomo (</a:t>
            </a:r>
            <a:r>
              <a:rPr b="0" i="1" lang="es-ES" sz="1100" spc="-1" strike="noStrike">
                <a:solidFill>
                  <a:srgbClr val="000000"/>
                </a:solidFill>
                <a:latin typeface="Times New Roman"/>
              </a:rPr>
              <a:t>Lead-Based Paint Poisoning Prevention Act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xplique que la exposición al plomo puede suceder en cualquier casa, sin importar la posición económica, sexo o raza de los ocupantes.  También explique que la renovación de la casa puede causar envenenamiento por plomo de un niño si no se toman las precauciones adecuada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xplique la diferencia entre nivel de plomo en pintura de la Comisi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Seguridad de los Productos de Consumo de los Estados Unidos (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PSC, por sus siglas en ingl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)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(600 ppm) y el nivel de plomo en pintura del Departamento de la Vivienda y Desarrollo Urbano de los Estados Unidos (HUD, por sus siglas en ingl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)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(5,000 ppm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964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A CONTINUACIÓN DIAPOSITIVAS CON FOTOGRAF</a:t>
            </a:r>
            <a:r>
              <a:rPr b="1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S</a:t>
            </a: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964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iapositiva 15 – Pintura descascarándose en la pared exterior de una cas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964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iapositiva 16 – Canal de ventana. 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sta es un área en donde es más probable encontrar niveles altos de polvo de plomo generado por deterioro de pintura con base de plomo.  Nota: 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sta es también un área de impacto y fricció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5 – Pintura descascarándose en la pared exterior de una cas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6 – Canal de ventana.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ta es un área en donde es más probable encontrar los niveles más altos de polvo de plomo generado por deterioro de pintura con base de plomo.  Nota: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ta es también un área de impacto y fric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literatura disponible sobre pinturas con base de plomo y los peligros del plomo, y dónde los estudiantes pueden obtener una copia de los panfletos mencionados en sus lib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ble sobre el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National Lead Information Cent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Centro Nacional de Información sobre Plomo), el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Lead Listing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la Lista de Plomo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gunos estudiantes podrían tener acceso al Internet – Los instructores les pueden suministrar las direcciones de EPA, HUD y otras fuentes de inform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PA:  www.epa.gov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D: www.hud.gov/offices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National Lead Information Cent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 www.epa.gov/lead/nlic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The Lead Listing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 www.leadlisting.org ó 1-888-LEAD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cuales aspectos en cada uno de los objetivos son importantes que el estudiante aprenda y compre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forma en que el plomo so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 ser extraído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como un producto secundario de la fundic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plat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el origen del símbolo del plomo (Pb, de la palabra latina para plomo—“plumbum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algunos usos históricos del plomo (soldadura, cosméticos, materiales de construcción, recipientes para agua potable, etc.) y por qué el plomo era un elemento tan út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 CONTINUACI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APOSITIVAS CON FOTOGRAF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S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:  Diapositivas 4-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106880" cy="3079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lomo en su estado natural:  el mineral llamado “galena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ie de objetos que pueden contener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uncio de una pintura fabricada por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National Lead Company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Comp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ía Nacional de Plomo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uno de los mayores productores de pinturas con base de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 definición del gobierno federal para “pintura con base de plomo.”  Explique que ese nivel se usa sólo para pinturas que ya han sido aplicadas sobre una superfic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la diferencia entre las cifras 1.0 mg/c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0.5% y 5,000 pp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s acciones recomendadas a estos niveles de plomo si la pintura está deteriorada, será alterada a causa de una remodelación o está generando polvo de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ositiv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positiva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rifique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lgunas de estas fuentes corresponden a usos anteriores de plomo, mientras que otras fuentes corresponden a usos actuales de plomo.  Por ejemplo, en los E.U., el plomo en la gasolina ya no es una fuente principal de plomo, pero pudo haber contribu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 a los niveles altos de plomo que se encuentran actualmente en el sue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ta las razones por las cuales cada uno de estas fuentes puede contener plo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lique la forma en que la pintura con base de plomo se deteriora y se convierte en polvo de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2960" y="380880"/>
              <a:ext cx="8759880" cy="646452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738840" y="4114800"/>
              <a:ext cx="2032200" cy="2286000"/>
              <a:chOff x="6738840" y="4114800"/>
              <a:chExt cx="2032200" cy="2286000"/>
            </a:xfrm>
          </p:grpSpPr>
          <p:sp>
            <p:nvSpPr>
              <p:cNvPr id="4" name=""/>
              <p:cNvSpPr/>
              <p:nvPr/>
            </p:nvSpPr>
            <p:spPr>
              <a:xfrm>
                <a:off x="8636040" y="6248520"/>
                <a:ext cx="135000" cy="1522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64600" y="6248520"/>
                <a:ext cx="13644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94600" y="624852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823160" y="62485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51720" y="6248520"/>
                <a:ext cx="13644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81720" y="6248520"/>
                <a:ext cx="13500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010280" y="62485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738840" y="6248520"/>
                <a:ext cx="1368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6040" y="5943600"/>
                <a:ext cx="13500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636040" y="5638680"/>
                <a:ext cx="13500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636040" y="53341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6040" y="5029200"/>
                <a:ext cx="13500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636040" y="4724280"/>
                <a:ext cx="13500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636040" y="44197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6040" y="411480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20520"/>
            <a:ext cx="9137520" cy="6872040"/>
            <a:chOff x="0" y="-20520"/>
            <a:chExt cx="9137520" cy="6872040"/>
          </a:xfrm>
        </p:grpSpPr>
        <p:sp>
          <p:nvSpPr>
            <p:cNvPr id="63" name=""/>
            <p:cNvSpPr/>
            <p:nvPr/>
          </p:nvSpPr>
          <p:spPr>
            <a:xfrm>
              <a:off x="0" y="-20520"/>
              <a:ext cx="9137520" cy="687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960" y="662040"/>
              <a:ext cx="8759880" cy="535464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815160" y="3824280"/>
              <a:ext cx="2031840" cy="1943280"/>
              <a:chOff x="6815160" y="3824280"/>
              <a:chExt cx="2031840" cy="1943280"/>
            </a:xfrm>
          </p:grpSpPr>
          <p:sp>
            <p:nvSpPr>
              <p:cNvPr id="66" name=""/>
              <p:cNvSpPr/>
              <p:nvPr/>
            </p:nvSpPr>
            <p:spPr>
              <a:xfrm>
                <a:off x="8712360" y="5637240"/>
                <a:ext cx="134640" cy="1303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40560" y="5637240"/>
                <a:ext cx="13680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70920" y="5637240"/>
                <a:ext cx="135000" cy="13032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899480" y="5637240"/>
                <a:ext cx="135000" cy="130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28040" y="5637240"/>
                <a:ext cx="1364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58040" y="5637240"/>
                <a:ext cx="135000" cy="130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86600" y="5637240"/>
                <a:ext cx="135000" cy="1303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15160" y="5637240"/>
                <a:ext cx="1364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12360" y="5378400"/>
                <a:ext cx="13464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12360" y="5119560"/>
                <a:ext cx="134640" cy="128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12360" y="4861080"/>
                <a:ext cx="134640" cy="128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12360" y="4600440"/>
                <a:ext cx="1346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12360" y="4341960"/>
                <a:ext cx="134640" cy="1299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712360" y="4083120"/>
                <a:ext cx="134640" cy="1285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12360" y="3824280"/>
                <a:ext cx="1346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42960" y="966960"/>
              <a:ext cx="2031840" cy="2295360"/>
              <a:chOff x="642960" y="966960"/>
              <a:chExt cx="2031840" cy="2295360"/>
            </a:xfrm>
          </p:grpSpPr>
          <p:sp>
            <p:nvSpPr>
              <p:cNvPr id="82" name=""/>
              <p:cNvSpPr/>
              <p:nvPr/>
            </p:nvSpPr>
            <p:spPr>
              <a:xfrm>
                <a:off x="642960" y="966960"/>
                <a:ext cx="135000" cy="15372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2960" y="966960"/>
                <a:ext cx="13644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84400" y="966960"/>
                <a:ext cx="134640" cy="15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55840" y="966960"/>
                <a:ext cx="135000" cy="153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5480" y="966960"/>
                <a:ext cx="136800" cy="1537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96920" y="966960"/>
                <a:ext cx="13500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68360" y="966960"/>
                <a:ext cx="135000" cy="153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38360" y="966960"/>
                <a:ext cx="136440" cy="15372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2960" y="1273320"/>
                <a:ext cx="13500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960" y="157968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2960" y="188604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960" y="2190600"/>
                <a:ext cx="135000" cy="1540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2960" y="2496960"/>
                <a:ext cx="13500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2960" y="280368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2960" y="311004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el plomo?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Dónde se encuentra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82800" y="3270240"/>
            <a:ext cx="5865840" cy="19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itigación del Plomo:                   Un Curso para Trabaj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¿Cómo Puede Exponerse Usted al Plomo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680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tículas de plomo, invisibles al ojo humano, pueden ser respiradas o inger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ocar superficies cubiertas con polvo de plomo, usted puede ingeri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niños están especialmente en riesgo de envenenamiento por plomo porque a menudo introducen sus dedos en la bo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síntomas de envenenamiento por plomo son similares a otras enfermedades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423720"/>
            <a:ext cx="54118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59040" y="179280"/>
            <a:ext cx="54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Trabajos y Pasatiempos con Exposición al Plom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icios de construcción (p.ej., trabajadores encargados de la mitigación de plomo, carpinteros, plomeros, remodeladores/ restauradores, pintor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icios industriales (p.ej., mineros de plomo, fundidores de plomo, fabricantes de vidrio con plomo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tros oficios (p.ej., empleados de campos de tiro, policías, pintores de arte, mecánicos de autos, impresores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El Problema del Plomo en los E.U.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rca de 38 millones de casas tienen pintura con base de plomo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87% de las casas constru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as antes de 19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4% de las casas constru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as entre 1960-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intura que contenga más de 0.06% de plomo no puede usarse en casas, muebles o jugu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Para Mayor Informació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muchos recursos impresos dispon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oteja a su Familia del Plomo en su Ca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nidades Domésticas de Tratamiento de Agua: Filtrando los Hechos de la Fic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eguridad y Pinturas con Base de Plomo:  Una Guía Práctica para Realizar Actividades de Pintura, Mantenimiento del Hogar y Trabajos de Renovación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erie de Informaci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n Sobre la Toxicidad del Plo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tros re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Objetivos de Aprendizaj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sección usted aprenderá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es el plo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qué se ha utilizado el plo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ónde se encuentra plomo hoy 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puede exponerse usted al plo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ciones sobre el problema de las pinturas con base de plomo en los E.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¿Qué es el Plomo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plomo es un metal pesado, blando, flexible, de color gris azu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ímbolo químico del plomo es “P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839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35320" y="46080"/>
            <a:ext cx="4449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Pintura con base de plomo es …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23920" y="2027160"/>
            <a:ext cx="68580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lquier pintura,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z, laca u otro recubrimiento superficial que contenga 1.0 mg/cm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más de plom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0.5% (5,000 ppm) o más de plomo por peso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ff"/>
                </a:solidFill>
                <a:latin typeface="Arial"/>
              </a:rPr>
              <a:t>¿Por qué se ha utilizado plomo?</a:t>
            </a:r>
            <a:endParaRPr b="0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ita la corro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imina el m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fácil de mold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fu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oquea la rad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oquea el so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yuda a que la pintura seque más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 da color y brillo a la pin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¿Dónde puede encontrarse el plomo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in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isiones indust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satiem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13:57:49Z</dcterms:created>
  <dc:creator>Vicki Hanrahan Ainslie</dc:creator>
  <dc:description/>
  <cp:keywords/>
  <dc:language>en-US</dc:language>
  <cp:lastModifiedBy>13242</cp:lastModifiedBy>
  <cp:lastPrinted>1998-06-18T13:50:25Z</cp:lastPrinted>
  <dcterms:modified xsi:type="dcterms:W3CDTF">2004-06-07T21:36:38Z</dcterms:modified>
  <cp:revision>116</cp:revision>
  <dc:subject/>
  <dc:title>What is Lead?  Where is it Found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